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DEC3-8DFB-4B01-B3D4-B3FF3192A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E0FC-FDDA-46B1-9860-1D670491EB8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C3633-27E4-46D1-8AA1-38D47D26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82CAB-EA42-4428-8510-932C04F8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AA86F-F413-4BB8-A0B7-C5EDC283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396C5-7DE7-43A2-B103-B61DD984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20FB0-171C-4EC1-8074-21B14C2F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C958F-EE84-4934-8759-888A758B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3636D-6AC7-442E-9F5F-1922D791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D13BB-98B3-484E-BE43-8E8713C8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1DE88-EFD4-409D-A9AA-38B11996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AF603-52AA-4EF1-917C-4C59049C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5CF0-CEB1-4625-B441-EA4936123FB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74C7A-30D5-4EC1-ADC6-4B3288E8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864C5-3E56-4305-8190-4EB0B640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4D3A9-A37F-42CC-9057-292F20A4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4F183-40DF-4B1B-A528-EB95DD38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3943B-6101-4BA7-BF46-01556C7D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41CC3-CF37-4F05-A32C-468B2E9F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A2771-4522-4C9E-ACB7-CFA86035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84827-6A6B-42ED-BA43-ABA64F7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E55F7-7329-4266-B196-47B4FC3B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DEA01-39CE-421E-8B88-669615B7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576E-E7DA-4A8E-9330-E28CE54E6E2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03B99-5E24-4FA3-8F70-FC0FDF9D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2458C7-1C37-43B5-BDBB-D46A1CAA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1E812C-5432-48DC-B790-ADEAF19A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E79237-77B7-4E05-A4A6-D4E8561B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E5216C-B790-4E36-BE69-2B22D458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150BD4-FB2B-450B-A8DA-856A3B68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9B1E03-B54C-4128-9036-CB6C5FF8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D84442-5582-4296-B7B3-4A1D339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60A722-3645-47D6-85A3-88C5A48B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317F4D-F5B6-4D9F-A9AB-D94E2510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38F82-0448-4888-AE85-DD2ACBC4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6C1271-64D4-42FF-83E2-66146AC6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C9F22E-0787-4B77-983C-2E1EC7F4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60156E-E400-483F-AE60-2926523A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7D0C5-7DC2-42EB-8B2A-D0BEA965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611FA-9C19-4DCE-8C61-07F947C9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481E2-E854-4EBF-8590-D034FBA0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5D745-4094-4B2A-9285-C0DA7D55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67595-5D3D-4F20-A85D-1CD7E34C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CFE2F-C824-43C2-9934-3BF24546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68648-65EF-4C52-B157-592197B4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4578C-3165-4BE3-B332-AA2AE843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1D126-3A5F-4AAB-BE29-48D7167E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6C689-21FD-4F80-97A0-07B20A85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A08D7-4504-4980-B132-3C49E7EA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3AC24-A013-4B2D-8974-7F83998C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24811-22B2-4097-AAD8-B46EE896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B03F5-6B76-4370-878E-445BA1EC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54203-D864-4605-8D6B-1C4569CB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6FD89-B026-4895-B506-0F1C271C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AF6E7-A365-41D3-B050-859750A2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8CD4D-37C0-46E4-A42F-CF425C72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CC62-66D5-41C3-B4D3-7478919EE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1E7AF-DE0A-4899-97BD-055021DC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80D51-9090-4305-BF7E-5F49E6C3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56AEC-B5CE-49D7-BE17-31880EC0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51D29-191D-44BC-AF59-EAF06471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CB6D5-4B0A-464B-9B4B-DF9FE3AF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4FC1E7-4915-4069-8AC3-2E7EC1F7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C7A644-DED2-4415-A5D4-11DF8057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805C14-5DE8-4AC2-AA1B-07B13043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2B92C2-A80C-406A-8E19-FBCAD891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7C2D5F-8557-44A8-A6D7-0E60C646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A4C7-612B-4A99-AFD3-1337F52CD6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CEC332-E759-477B-8080-678DD6B3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157B3-3C7D-49EC-BB00-7F91F9FE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09956D-E0F5-4800-B0F1-3267532B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1A287C-B423-406F-9558-92A0F6BF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AD4036-8E4F-403C-A18F-49683FA5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43023C-CE1D-4349-B7B2-AA214A7A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48932A-7B07-49B9-8CCF-A88E0109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9B7AE-749A-4E2E-B632-37D5FEEF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6265D-B2C2-49F4-9490-3E6691D2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63621D-ECDA-4FAB-B599-BFA5AA33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4205-11BA-4949-9496-3BED250E69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B2898-A9B1-4042-8E8E-D312DA27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EA691-220E-42C3-BDE3-8CA7AEC4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63240-7EB0-43AC-B919-86A3BEEA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FF9504-63B3-4C98-A39F-F9BF1CEB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0F789D-8FD1-4D90-9BA9-EE913E51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A3ACBB-5C2E-480A-9A63-6EA01143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7F9CD8-05D3-4634-983A-A6C289E1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7E1A7C-1D9D-4907-BD2D-3A683408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3716C-E2B5-4927-98FC-DF309A67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C5BF13-D476-4226-8E9B-0E1CA8B4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F56A-6569-4D02-904E-C5F06558DB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CAF3F2-E325-4210-9D4D-C603A2FA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921628-4347-4F46-9BF0-0A8E0B40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09640F-7337-447E-9EDB-3A081662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2BA2D3-75D5-4D48-AB60-A4B8500D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9EBF35-C05A-400E-8C8E-F9FFBC6A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4F70AA-A2B4-425B-BC64-9692A153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9A48C3-12FC-44B4-97B2-79C488AB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377D31-5B1B-41CD-9B67-3EF12DB6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342A06-F6FD-40E7-ABA4-27EB1208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DB4169-EF17-4C13-9E45-87FB4A27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975C-06A4-42DA-A81D-123D67C227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A37BC7-579A-4407-B64C-76613767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5975C2-313E-4227-A815-F08853F1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5CDF81-071A-427C-A7A3-34BD462D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471D71-9CB2-4864-902C-C7E92AE1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DC99B9-4474-4606-81CB-78F97F2A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38B342-B89F-4A75-8DBA-4912DF46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82DEB8-C816-427E-8521-9D19B00D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02AEAE-F2C5-4CA6-99FF-A36C6C0B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AA53CE-D375-48E9-AD05-07C121AC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313180-FD64-462C-8CF7-FB26B3FC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E3A9-2961-400C-AEB4-D3379BBD6EE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FC23C6-2215-4A8D-B45A-1AC02E6E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A91CF0-31CA-48F1-9D3E-E8854FB0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451B7A-B86D-4BBF-B496-430FC415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B26B12-92FD-48B8-899C-DA391A10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051D01-AAAA-40B8-B4A3-28BECB89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D6303A-17C0-4078-97B9-DE75C8F2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5DEA3E-9BD6-4D5E-8810-16B3C0F3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177C73-7074-4A60-8C3B-D55F7A48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A74656-6290-442E-8069-FDA76065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00444B-549A-4142-9A2D-34346E65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87FE-D2D8-46B9-A360-3A21115BA7A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AA9A3B-123D-4FBF-AAB2-74C0847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C3F353-DE9B-4115-948F-6383DA28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96CC7C-50D0-4961-8256-22491065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DC62FF-7128-4D42-847D-0437D5A5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A642FC-AAF9-4353-A1EF-1ACB6636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A61425-81E7-46A5-9904-B2823C2B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F3355E-99C7-4A1C-A34B-0F2C67AB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12148A-CED7-47C5-B1E4-19EC26CA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EC2E07-A2E2-4C63-99CD-84C174D6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F33FF4-3AD8-4BCC-B18D-8437F087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4AE0-B505-48B5-A8CF-AF6F59E1F5F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17B77C-0B9D-4AE2-8A33-BF0F39B8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14DE0E-E1B2-4B26-8124-6125355A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E2E364-4C6B-499E-96E9-5D61F2DA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AF691D-5357-4D40-8A97-FDB45631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128CF2-778B-4653-9FA2-A9ED9D5A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29176D-777B-4C1F-8925-72595007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8CE975-D0CE-4FB8-89EB-EC37B2B5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A092C-E3A1-4372-AB1B-C8206F4E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7EDF4-852B-46D0-BA4B-B0FF02A2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245C3-F78D-4231-A0E5-93010FBB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9DECC-EDB9-42F6-A759-41EC61A55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79A1B-542B-4BC9-8969-169C8BFEBE0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A1DA0-787A-4719-B429-6CEC8DE95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E9798-0F66-4658-86BF-ACBC4A6DE7C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07FEF-8DB7-4E05-85E3-CAFDD6892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33AC4-A517-4632-A00D-1AFFE8A37E9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7852E-3AA2-4CBE-874E-6C7E643B4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0" t="0" r="825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AEEF8-5924-4EF4-A47D-8E1B13046D2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311AF-3023-4029-A694-5F29AE4B0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55C55-EA0A-4E6C-B0F2-C19506588C1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B70B1-94B9-4F86-97DC-AB0E29EDB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97F81-43E3-4726-9621-C044FA6D91D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7D668-F4BD-43F5-93E5-30C8100AE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2D1FA-15D7-427D-8094-B928D54FFE09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4656C-A86F-4E3E-8301-9F866A5FA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A1D9E-D32F-445F-9604-6502923BB58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BC8AB-9E9F-4D07-B636-927E67E2C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0B388-EB88-4CF4-B64E-767F61E08C7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935D2-F081-4F29-AFCA-BBC5B899B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1D98B-0A22-40CD-830B-25695B9D5E5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4B6B6-60E5-4B58-8580-2FC27635F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609F6-0639-4C0E-93F6-804E1460DE1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05C18-2B9D-40F0-97EA-5B15F55C5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– (S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19320" y="3478320"/>
            <a:ext cx="58546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C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"/>
          <p:cNvSpPr/>
          <p:nvPr/>
        </p:nvSpPr>
        <p:spPr>
          <a:xfrm>
            <a:off x="322200" y="1944720"/>
            <a:ext cx="45720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ing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ons in high-performance leadership drawn from endurance r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5" descr="https://images-na.ssl-images-amazon.com/images/I/510fZezb6SL._SX331_BO1,204,203,200_.jpg"/>
          <p:cNvPicPr/>
          <p:nvPr/>
        </p:nvPicPr>
        <p:blipFill>
          <a:blip r:embed="rId1"/>
          <a:stretch/>
        </p:blipFill>
        <p:spPr>
          <a:xfrm>
            <a:off x="5245200" y="1263600"/>
            <a:ext cx="33591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Oval 18"/>
          <p:cNvSpPr/>
          <p:nvPr/>
        </p:nvSpPr>
        <p:spPr>
          <a:xfrm>
            <a:off x="4673520" y="2036880"/>
            <a:ext cx="3151440" cy="315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6524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fundamental habits from r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humble in your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your eyes dow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target fi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he drive, drive th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decide, comm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fort, Stretch, Panic, Cras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5"/>
          <p:cNvGrpSpPr/>
          <p:nvPr/>
        </p:nvGrpSpPr>
        <p:grpSpPr>
          <a:xfrm>
            <a:off x="4838760" y="2201760"/>
            <a:ext cx="2833560" cy="2833920"/>
            <a:chOff x="4838760" y="2201760"/>
            <a:chExt cx="2833560" cy="2833920"/>
          </a:xfrm>
        </p:grpSpPr>
        <p:grpSp>
          <p:nvGrpSpPr>
            <p:cNvPr id="537" name="Oval 1"/>
            <p:cNvGrpSpPr/>
            <p:nvPr/>
          </p:nvGrpSpPr>
          <p:grpSpPr>
            <a:xfrm>
              <a:off x="4838760" y="2201760"/>
              <a:ext cx="2833560" cy="2833920"/>
              <a:chOff x="4838760" y="2201760"/>
              <a:chExt cx="2833560" cy="2833920"/>
            </a:xfrm>
          </p:grpSpPr>
          <p:pic>
            <p:nvPicPr>
              <p:cNvPr id="538" name="Oval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838760" y="2201760"/>
                <a:ext cx="2833560" cy="283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"/>
              <p:cNvSpPr/>
              <p:nvPr/>
            </p:nvSpPr>
            <p:spPr>
              <a:xfrm>
                <a:off x="5286240" y="2627280"/>
                <a:ext cx="1940400" cy="19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Oval 3"/>
            <p:cNvGrpSpPr/>
            <p:nvPr/>
          </p:nvGrpSpPr>
          <p:grpSpPr>
            <a:xfrm>
              <a:off x="5252040" y="2613960"/>
              <a:ext cx="2013120" cy="2009160"/>
              <a:chOff x="5252040" y="2613960"/>
              <a:chExt cx="2013120" cy="2009160"/>
            </a:xfrm>
          </p:grpSpPr>
          <p:pic>
            <p:nvPicPr>
              <p:cNvPr id="541" name="Oval 3" descr=""/>
              <p:cNvPicPr/>
              <p:nvPr/>
            </p:nvPicPr>
            <p:blipFill>
              <a:blip r:embed="rId2"/>
              <a:stretch/>
            </p:blipFill>
            <p:spPr>
              <a:xfrm>
                <a:off x="5252040" y="2613960"/>
                <a:ext cx="2013120" cy="20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5577120" y="2917440"/>
                <a:ext cx="1358640" cy="13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Oval 2"/>
            <p:cNvGrpSpPr/>
            <p:nvPr/>
          </p:nvGrpSpPr>
          <p:grpSpPr>
            <a:xfrm>
              <a:off x="5830560" y="3191400"/>
              <a:ext cx="856080" cy="854280"/>
              <a:chOff x="5830560" y="3191400"/>
              <a:chExt cx="856080" cy="854280"/>
            </a:xfrm>
          </p:grpSpPr>
          <p:pic>
            <p:nvPicPr>
              <p:cNvPr id="544" name="Oval 2" descr=""/>
              <p:cNvPicPr/>
              <p:nvPr/>
            </p:nvPicPr>
            <p:blipFill>
              <a:blip r:embed="rId3"/>
              <a:stretch/>
            </p:blipFill>
            <p:spPr>
              <a:xfrm>
                <a:off x="5830560" y="3191400"/>
                <a:ext cx="856080" cy="85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>
                <a:off x="5986080" y="3325320"/>
                <a:ext cx="541440" cy="54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TextBox 4"/>
          <p:cNvSpPr/>
          <p:nvPr/>
        </p:nvSpPr>
        <p:spPr>
          <a:xfrm>
            <a:off x="7843680" y="344952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7"/>
          <p:cNvSpPr/>
          <p:nvPr/>
        </p:nvSpPr>
        <p:spPr>
          <a:xfrm>
            <a:off x="7823160" y="403056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8"/>
          <p:cNvSpPr/>
          <p:nvPr/>
        </p:nvSpPr>
        <p:spPr>
          <a:xfrm>
            <a:off x="7804080" y="48052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9"/>
          <p:cNvSpPr/>
          <p:nvPr/>
        </p:nvSpPr>
        <p:spPr>
          <a:xfrm>
            <a:off x="7794720" y="503244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1"/>
          <p:cNvSpPr/>
          <p:nvPr/>
        </p:nvSpPr>
        <p:spPr>
          <a:xfrm>
            <a:off x="7808760" y="4314960"/>
            <a:ext cx="145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1" name="Straight Arrow Connector 10"/>
          <p:cNvCxnSpPr/>
          <p:nvPr/>
        </p:nvCxnSpPr>
        <p:spPr>
          <a:xfrm flipH="1">
            <a:off x="6268320" y="3617640"/>
            <a:ext cx="15534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2" name="Straight Arrow Connector 14"/>
          <p:cNvCxnSpPr/>
          <p:nvPr/>
        </p:nvCxnSpPr>
        <p:spPr>
          <a:xfrm flipH="1">
            <a:off x="6283080" y="4179600"/>
            <a:ext cx="155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3" name="Straight Arrow Connector 15"/>
          <p:cNvCxnSpPr/>
          <p:nvPr/>
        </p:nvCxnSpPr>
        <p:spPr>
          <a:xfrm flipH="1">
            <a:off x="6283080" y="4609800"/>
            <a:ext cx="155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4" name="Straight Arrow Connector 16"/>
          <p:cNvCxnSpPr/>
          <p:nvPr/>
        </p:nvCxnSpPr>
        <p:spPr>
          <a:xfrm flipH="1">
            <a:off x="6283080" y="4973400"/>
            <a:ext cx="155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5" name="Straight Arrow Connector 17"/>
          <p:cNvCxnSpPr/>
          <p:nvPr/>
        </p:nvCxnSpPr>
        <p:spPr>
          <a:xfrm flipH="1">
            <a:off x="6291000" y="5221080"/>
            <a:ext cx="15530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actually showed me what was possibl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enefits of extraordinary pain is its ability to focus your atten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fast driving and high performance driving is analogous to leading and leading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experience, mentoring, and structure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 positive change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Technic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 by Al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Trish Mooney</cp:lastModifiedBy>
  <cp:lastPrinted>2011-06-13T12:29:39Z</cp:lastPrinted>
  <dcterms:modified xsi:type="dcterms:W3CDTF">2017-01-05T13:12:11Z</dcterms:modified>
  <cp:revision>22</cp:revision>
  <dc:subject/>
  <dc:title>Leading with Impact </dc:title>
</cp:coreProperties>
</file>